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ECF-845B-4E95-A308-A59F13A7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B54-6494-418E-AFDE-F433AC10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440-4EF5-4BEA-A4E3-35F0E8FE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FF6-79D5-477D-AA3A-B06AB4A5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144-24AE-4EB8-BE3D-526264BF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02E-4646-469F-B5F4-3EEA0469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F47-4F6C-46A8-A477-4FEF275C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38F-3FF7-4096-91A1-EB584E4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A05-5561-4A3F-975B-EAB3A5E5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301-2DEF-4734-8F20-14859A47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C92-DB2A-4BF5-9FD7-D9BB2292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4A99-92D0-4071-ADCF-53AC92D9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8DC1-C1FA-4758-B01C-A6570C88C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A solitary oy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R.I.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Ebenezer 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y as an Ang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I.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Valana</cp:lastModifiedBy>
  <dcterms:modified xsi:type="dcterms:W3CDTF">2009-12-09T23:06:55Z</dcterms:modified>
  <cp:revision>7</cp:revision>
  <dc:subject/>
  <dc:title>Slide 1</dc:title>
</cp:coreProperties>
</file>